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880" y="38779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292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832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076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588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832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076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95400" y="241200"/>
            <a:ext cx="709128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292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1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2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3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4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5" marL="173160" indent="-1731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6" marL="173160" indent="-1731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pic>
        <p:nvPicPr>
          <p:cNvPr id="2" name="Picture 33" descr="app"/>
          <p:cNvPicPr/>
          <p:nvPr/>
        </p:nvPicPr>
        <p:blipFill>
          <a:blip r:embed="rId2"/>
          <a:stretch/>
        </p:blipFill>
        <p:spPr>
          <a:xfrm>
            <a:off x="-4680" y="-9360"/>
            <a:ext cx="9148680" cy="977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4" descr="app"/>
          <p:cNvPicPr/>
          <p:nvPr/>
        </p:nvPicPr>
        <p:blipFill>
          <a:blip r:embed="rId3"/>
          <a:stretch/>
        </p:blipFill>
        <p:spPr>
          <a:xfrm>
            <a:off x="-4680" y="992160"/>
            <a:ext cx="9148680" cy="98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7" descr="logo_hidrografico_br_rgb"/>
          <p:cNvPicPr/>
          <p:nvPr/>
        </p:nvPicPr>
        <p:blipFill>
          <a:blip r:embed="rId4"/>
          <a:stretch/>
        </p:blipFill>
        <p:spPr>
          <a:xfrm>
            <a:off x="136440" y="93600"/>
            <a:ext cx="1727280" cy="773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8" descr="app"/>
          <p:cNvPicPr/>
          <p:nvPr/>
        </p:nvPicPr>
        <p:blipFill>
          <a:blip r:embed="rId5"/>
          <a:stretch/>
        </p:blipFill>
        <p:spPr>
          <a:xfrm>
            <a:off x="-9360" y="6581880"/>
            <a:ext cx="7481880" cy="79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" name="Picture 39" descr=""/>
          <p:cNvPicPr/>
          <p:nvPr/>
        </p:nvPicPr>
        <p:blipFill>
          <a:blip r:embed="rId6"/>
          <a:stretch/>
        </p:blipFill>
        <p:spPr>
          <a:xfrm>
            <a:off x="7480440" y="6232680"/>
            <a:ext cx="12888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99d"/>
                </a:solidFill>
                <a:latin typeface="Tahoma"/>
              </a:rPr>
              <a:t>IALA Questionnaire 2011 (M2)</a:t>
            </a:r>
            <a:br>
              <a:rPr sz="2800"/>
            </a:br>
            <a:r>
              <a:rPr b="1" lang="en-US" sz="2800" spc="-1" strike="noStrike">
                <a:solidFill>
                  <a:srgbClr val="00599d"/>
                </a:solidFill>
                <a:latin typeface="Tahoma"/>
              </a:rPr>
              <a:t>[2010 data]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3789360"/>
            <a:ext cx="8569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Victor Conceição – Hydrographic instit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Jorge Teles – Lighthouses Authority (P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99d"/>
                </a:solidFill>
                <a:latin typeface="Tahoma"/>
              </a:rPr>
              <a:t>santos.teles@marinha.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Arlindo Santos – Lighthouses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44000" cy="521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14960" y="5877000"/>
            <a:ext cx="31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gis.hidrografico.pt/ial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Fixed A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More Fixed major light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6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4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4040" indent="-42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0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ixed minor light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5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5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1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4040" indent="-42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ixed unlighted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19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2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4040" indent="-42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Leading sector light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2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6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4040" indent="-42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6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Leading range lights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62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6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5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4040" indent="-42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1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Leading unlighted ranges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6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6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6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04040" indent="-42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Fixed A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90360" y="1095480"/>
            <a:ext cx="9558360" cy="47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Fixed lighted A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More Fixed major light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6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4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0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ixed minor light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5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5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1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Rectangle 3"/>
          <p:cNvGraphicFramePr/>
          <p:nvPr/>
        </p:nvGraphicFramePr>
        <p:xfrm>
          <a:off x="0" y="2637000"/>
          <a:ext cx="9144000" cy="409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37000"/>
                    <a:ext cx="914400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Fixed lighted A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8" name="Rectangle 3"/>
          <p:cNvGraphicFramePr/>
          <p:nvPr/>
        </p:nvGraphicFramePr>
        <p:xfrm>
          <a:off x="0" y="1576440"/>
          <a:ext cx="9144000" cy="43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76440"/>
                    <a:ext cx="914400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608040" y="2076480"/>
            <a:ext cx="7707600" cy="1007280"/>
            <a:chOff x="608040" y="2076480"/>
            <a:chExt cx="7707600" cy="1007280"/>
          </a:xfrm>
        </p:grpSpPr>
        <p:grpSp>
          <p:nvGrpSpPr>
            <p:cNvPr id="61" name=""/>
            <p:cNvGrpSpPr/>
            <p:nvPr/>
          </p:nvGrpSpPr>
          <p:grpSpPr>
            <a:xfrm>
              <a:off x="608040" y="2076480"/>
              <a:ext cx="7460280" cy="1007280"/>
              <a:chOff x="608040" y="2076480"/>
              <a:chExt cx="7460280" cy="1007280"/>
            </a:xfrm>
          </p:grpSpPr>
          <p:sp>
            <p:nvSpPr>
              <p:cNvPr id="62" name=""/>
              <p:cNvSpPr/>
              <p:nvPr/>
            </p:nvSpPr>
            <p:spPr>
              <a:xfrm>
                <a:off x="608040" y="2581200"/>
                <a:ext cx="725616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7500960" y="2076480"/>
                <a:ext cx="567360" cy="1007280"/>
                <a:chOff x="7500960" y="2076480"/>
                <a:chExt cx="567360" cy="1007280"/>
              </a:xfrm>
            </p:grpSpPr>
            <p:sp>
              <p:nvSpPr>
                <p:cNvPr id="64" name=""/>
                <p:cNvSpPr/>
                <p:nvPr/>
              </p:nvSpPr>
              <p:spPr>
                <a:xfrm rot="16200000">
                  <a:off x="7358040" y="2219400"/>
                  <a:ext cx="503280" cy="21744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54360 h 217440"/>
                    <a:gd name="textAreaBottom" fmla="*/ 163080 h 21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V="1" rot="5400000">
                  <a:off x="7358040" y="2723040"/>
                  <a:ext cx="502920" cy="21744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4360 h 217440"/>
                    <a:gd name="textAreaBottom" fmla="*/ 163080 h 21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720200" y="222120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719840" y="275760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" name=""/>
            <p:cNvSpPr/>
            <p:nvPr/>
          </p:nvSpPr>
          <p:spPr>
            <a:xfrm rot="10800000">
              <a:off x="8071920" y="230976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Fixed Unlighted A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More Fixed unlighted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19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2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Rectangle 3"/>
          <p:cNvGraphicFramePr/>
          <p:nvPr/>
        </p:nvGraphicFramePr>
        <p:xfrm>
          <a:off x="0" y="1916280"/>
          <a:ext cx="9144000" cy="444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9144000" cy="44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"/>
          <p:cNvGrpSpPr/>
          <p:nvPr/>
        </p:nvGrpSpPr>
        <p:grpSpPr>
          <a:xfrm>
            <a:off x="684360" y="2471760"/>
            <a:ext cx="7707240" cy="1007280"/>
            <a:chOff x="684360" y="2471760"/>
            <a:chExt cx="7707240" cy="1007280"/>
          </a:xfrm>
        </p:grpSpPr>
        <p:grpSp>
          <p:nvGrpSpPr>
            <p:cNvPr id="74" name=""/>
            <p:cNvGrpSpPr/>
            <p:nvPr/>
          </p:nvGrpSpPr>
          <p:grpSpPr>
            <a:xfrm>
              <a:off x="684360" y="2471760"/>
              <a:ext cx="7460280" cy="1007280"/>
              <a:chOff x="684360" y="2471760"/>
              <a:chExt cx="7460280" cy="1007280"/>
            </a:xfrm>
          </p:grpSpPr>
          <p:sp>
            <p:nvSpPr>
              <p:cNvPr id="75" name=""/>
              <p:cNvSpPr/>
              <p:nvPr/>
            </p:nvSpPr>
            <p:spPr>
              <a:xfrm>
                <a:off x="684360" y="2976480"/>
                <a:ext cx="725580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7577280" y="2471760"/>
                <a:ext cx="567360" cy="1007280"/>
                <a:chOff x="7577280" y="2471760"/>
                <a:chExt cx="567360" cy="1007280"/>
              </a:xfrm>
            </p:grpSpPr>
            <p:sp>
              <p:nvSpPr>
                <p:cNvPr id="77" name=""/>
                <p:cNvSpPr/>
                <p:nvPr/>
              </p:nvSpPr>
              <p:spPr>
                <a:xfrm rot="16200000">
                  <a:off x="7434360" y="2614680"/>
                  <a:ext cx="503280" cy="21744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54360 h 217440"/>
                    <a:gd name="textAreaBottom" fmla="*/ 163080 h 21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 rot="5400000">
                  <a:off x="7434360" y="3118320"/>
                  <a:ext cx="502920" cy="21744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4360 h 217440"/>
                    <a:gd name="textAreaBottom" fmla="*/ 163080 h 21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796520" y="261648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796160" y="315288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" name=""/>
            <p:cNvSpPr/>
            <p:nvPr/>
          </p:nvSpPr>
          <p:spPr>
            <a:xfrm rot="10800000">
              <a:off x="8147880" y="270504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Leading A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3" name="Rectangle 3"/>
          <p:cNvGraphicFramePr/>
          <p:nvPr/>
        </p:nvGraphicFramePr>
        <p:xfrm>
          <a:off x="611280" y="776160"/>
          <a:ext cx="7848360" cy="584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76160"/>
                    <a:ext cx="784836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27:50Z</dcterms:created>
  <dc:creator>field</dc:creator>
  <dc:description/>
  <dc:language>en-US</dc:language>
  <cp:lastModifiedBy>Divisão Navegação - NS</cp:lastModifiedBy>
  <dcterms:modified xsi:type="dcterms:W3CDTF">2012-05-16T00:36:03Z</dcterms:modified>
  <cp:revision>36</cp:revision>
  <dc:subject/>
  <dc:title>Slide 1</dc:title>
</cp:coreProperties>
</file>